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7BEB-BD4B-434F-B601-524EE207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B86-5C8E-4F0D-8F6F-6DA538A4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103A-4358-46EA-85B6-BEE44A67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7621-6A88-4AC9-A743-2DD025C4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F6FB-871A-4D52-9383-7867DB4A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44B9-4390-45AE-8A8E-FF8D5B02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D03C-54E1-4C9F-AFDE-3B8E1B1E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038E-5475-44ED-B85B-C3AC24E6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4D3F-83CE-4602-8A7F-7769373A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FA4F-F70D-4919-B4CC-2F7DE406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28E8-42AA-4495-88EC-F44113EF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940-5753-49DE-84D1-9973280F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BB94-48B6-4D1C-B923-6DC47526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35E8-5833-4D72-AE66-68742855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6834-25CB-4BE1-A859-EA5F859B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05D9-E188-497F-A13B-4734FA48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6C07-5736-45B9-A6F3-267CC6A0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94A9-6CEA-4009-8301-837BCC23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4127-0E86-4026-9EEC-E34DE88D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D929-1093-4494-A121-64AC1845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CAA-90D9-49B8-A43A-9B5CC07D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8ABE-76A9-4DBD-9276-CDB8352A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B6C0-7360-40DF-82E5-0B02BBDA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4AD-57DA-4CAC-BEA4-95434EA2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E92B-2AB6-430E-BA75-256B38EB4F9F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A1BF-907A-48C5-985E-72122C46DE50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rebuchet MS"/>
              </a:rPr>
              <a:t>RC Bascharage Kordall </a:t>
            </a:r>
            <a:br>
              <a:rPr sz="4400"/>
            </a:br>
            <a:r>
              <a:rPr b="0" lang="fr-FR" sz="4400" spc="-1" strike="noStrike">
                <a:solidFill>
                  <a:srgbClr val="ffffff"/>
                </a:solidFill>
                <a:latin typeface="Trebuchet MS"/>
              </a:rPr>
              <a:t>2005-2006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895120" y="3200040"/>
            <a:ext cx="2133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Votre Président Elu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3360" y="2590560"/>
            <a:ext cx="335268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43000" y="1676520"/>
            <a:ext cx="723888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rebuchet MS"/>
              </a:rPr>
              <a:t>Rotary Club Bascharage Kordall 2005-2006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rebuchet MS"/>
              </a:rPr>
              <a:t>Actions: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29-31 juillet 2005</a:t>
            </a: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Jumping Clervaux ‘Boeschfest’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25 septembre 2005</a:t>
            </a: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Zesummen Ennerwé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18 november 2005     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Mir Verstéen all är Konschtwierker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7-10 décembre 2005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  Exposition Rotary et vente de    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                         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mandarines au Cactus de Bascharag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17 février 2006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        Le Rotary cuisine pour le Rotar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21 mai 2006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      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Découverte des Engins Mécanique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23 juin 2006</a:t>
            </a: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Tournoi de Golf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Rotary Club Bascharage Kordall 2005-2006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rebuchet MS"/>
              </a:rPr>
              <a:t>Ladies Night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rebuchet MS"/>
              </a:rPr>
              <a:t>Mercredi 31 août 2005</a:t>
            </a:r>
            <a:r>
              <a:rPr b="0" lang="fr-FR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Trebuchet MS"/>
              </a:rPr>
              <a:t>  Sortie Schueberfoue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rebuchet MS"/>
              </a:rPr>
              <a:t>Jeudi 29 septembre 2005</a:t>
            </a:r>
            <a:r>
              <a:rPr b="0" lang="fr-FR" sz="2800" spc="-1" strike="noStrike">
                <a:solidFill>
                  <a:srgbClr val="ffffff"/>
                </a:solidFill>
                <a:latin typeface="Trebuchet MS"/>
              </a:rPr>
              <a:t>  Visite Luxai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rebuchet MS"/>
              </a:rPr>
              <a:t>Vendredi 17 février 2006</a:t>
            </a:r>
            <a:r>
              <a:rPr b="0" lang="fr-FR" sz="2800" spc="-1" strike="noStrike">
                <a:solidFill>
                  <a:srgbClr val="ffffff"/>
                </a:solidFill>
                <a:latin typeface="Trebuchet MS"/>
              </a:rPr>
              <a:t>  Rotary cuisine pour le Rotar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rebuchet MS"/>
              </a:rPr>
              <a:t>Jeudi 30 mars 2006   </a:t>
            </a:r>
            <a:r>
              <a:rPr b="0" lang="fr-FR" sz="1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Trebuchet MS"/>
              </a:rPr>
              <a:t>Visite ARCELOR Belva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rebuchet MS"/>
              </a:rPr>
              <a:t>Vendredi 30 juin 2006</a:t>
            </a:r>
            <a:r>
              <a:rPr b="0" lang="fr-FR" sz="2800" spc="-1" strike="noStrike">
                <a:solidFill>
                  <a:srgbClr val="ffffff"/>
                </a:solidFill>
                <a:latin typeface="Trebuchet MS"/>
              </a:rPr>
              <a:t>     Passation des Pouvoir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9152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BARCELONA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15000" y="1295280"/>
            <a:ext cx="2857680" cy="381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828800" y="16002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0" y="33526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276720" y="4419720"/>
            <a:ext cx="3200400" cy="1965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1447920" y="3048120"/>
            <a:ext cx="24573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Rotary Club Bascharage Kordall 2005-2006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95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Voyage à Barcelon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OPTION 1 (3 journées et 2 nuits)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u vendredi 28 au dimanche 30 avril 2006 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budget maximum € 650,00.- par personn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OPTION 2 (4 journées et 3 nuits)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u vendredi 28 au lundi 1er mai 2006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Nous préparons le programme et nous vous tiendrons au courant dès le mois de septembre 2005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Enregistrement jusqu’au 31 octobre 2005 avec acompte de 30% par personn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rebuchet MS"/>
              </a:rPr>
              <a:t>Projet ‘Waterbridge’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833480" y="1981080"/>
            <a:ext cx="5477040" cy="4114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Rotary Club Bascharage Kordall 2005-2006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rebuchet MS"/>
              </a:rPr>
              <a:t>Projet ‘WATERBRIDGE’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rebuchet MS"/>
              </a:rPr>
              <a:t>         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District 1630          District 9200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Population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        2,7 mio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       130,0 mio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Nombre de pays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2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Superficie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    14.000 km2         3.000.000 km2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Nombre de clubs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82                           96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Nombre de membres       3.300                      2.500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Revenue annuel moyen  $ 26.400.-                $ 220.-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Rotary Club Bascharage Kordall 2005-2006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rebuchet MS"/>
              </a:rPr>
              <a:t>Projet ‘Waterbridge’ (suite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Financement et construction de 25 puits à travers des Matching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Grants en Afrique de l’Est. (25 clubs du district 1630 et 25 clubs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du district 9200), pour fin juin 2006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Coûts par puits est de $ 6.000.- (€4.600)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Composé comme suit: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$1.200.- DDF (District Funds)+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$2.400.-RFI (Rotary Foundation)+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rebuchet MS"/>
              </a:rPr>
              <a:t>$2.400 du club RC BK = +/- € 1.850.-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Rotary Club Bascharage Kordall 2005-2006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rebuchet MS"/>
              </a:rPr>
              <a:t>Projet ‘Waterbridge’ (suite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Notre club a décidé d’aider à construire un puit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pour € 1.850.- lors de la conférence de district à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rebuchet MS"/>
              </a:rPr>
              <a:t>Hoogstraate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rebuchet MS"/>
              </a:rPr>
              <a:t>Mon challenge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rebuchet MS"/>
              </a:rPr>
              <a:t>c’est d’aider à en construire 4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8T08:56:46Z</dcterms:created>
  <dc:creator>Antoine Scholer</dc:creator>
  <dc:description/>
  <dc:language>en-US</dc:language>
  <cp:lastModifiedBy>kkoch</cp:lastModifiedBy>
  <dcterms:modified xsi:type="dcterms:W3CDTF">2005-07-14T16:02:1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77333789</vt:r8>
  </property>
  <property fmtid="{D5CDD505-2E9C-101B-9397-08002B2CF9AE}" pid="3" name="_AuthorEmail">
    <vt:lpwstr>antoine.scholer@happysnacks.lu</vt:lpwstr>
  </property>
  <property fmtid="{D5CDD505-2E9C-101B-9397-08002B2CF9AE}" pid="4" name="_AuthorEmailDisplayName">
    <vt:lpwstr>Antoine Scholer</vt:lpwstr>
  </property>
  <property fmtid="{D5CDD505-2E9C-101B-9397-08002B2CF9AE}" pid="5" name="_EmailSubject">
    <vt:lpwstr>Présentation des activités du RC BK lors de la passation des pouvoirs</vt:lpwstr>
  </property>
  <property fmtid="{D5CDD505-2E9C-101B-9397-08002B2CF9AE}" pid="6" name="_ReviewingToolsShownOnce">
    <vt:lpwstr/>
  </property>
</Properties>
</file>